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32.wmf" ContentType="image/x-wmf"/>
  <Override PartName="/ppt/media/image24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27.jpeg" ContentType="image/jpeg"/>
  <Override PartName="/ppt/media/image13.wmf" ContentType="image/x-wmf"/>
  <Override PartName="/ppt/media/image10.gif" ContentType="image/gif"/>
  <Override PartName="/ppt/media/image3.png" ContentType="image/png"/>
  <Override PartName="/ppt/media/image33.png" ContentType="image/png"/>
  <Override PartName="/ppt/media/image28.gif" ContentType="image/gif"/>
  <Override PartName="/ppt/media/image9.jpeg" ContentType="image/jpeg"/>
  <Override PartName="/ppt/media/image30.jpeg" ContentType="image/jpeg"/>
  <Override PartName="/ppt/media/image7.jpeg" ContentType="image/jpeg"/>
  <Override PartName="/ppt/media/image31.gif" ContentType="image/gif"/>
  <Override PartName="/ppt/media/image34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8.wmf" ContentType="image/x-wmf"/>
  <Override PartName="/ppt/media/image4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media/image16.gif" ContentType="image/gi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E3F-9F95-4D75-9095-EB53DF2A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0B4-98B5-4BED-BAB7-5B84D39D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748-503F-4CBA-8F00-7020FB4C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7E9-D8C5-4A57-AA31-2019C939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0689-708E-452D-B572-81C3C8F3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0480-21A4-4AAE-A745-6601E07B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F9C9-C0A7-42C7-BF1A-342989C5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1F51-88AB-4340-AF67-466F1775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F741-9FF1-42A9-8B47-693BA956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788D-4B7F-40CD-B56A-600A752A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B04E-365B-45CE-812A-6EEB918E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54F-FA18-49AD-94A2-14FC6B40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7C0C-5919-477F-A117-96D4C91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F15D-B998-4F1A-B146-033A36B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D113-7858-4D66-B3E1-2EF92FE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749-52FD-4130-B5DB-0301E363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8B0-E9AB-4BB5-B172-79B0E7E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420-FBC2-4075-AB28-6A726E3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E29-6721-403A-B7D4-3609C814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B30-04CF-459A-A51D-1CD64F2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A4-295B-47AF-88F4-5E9944D5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E4E-E92F-46D6-8AFB-A8E5E4B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DB0-B5A0-467A-8231-CE71BAF2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C33-6186-4713-AB1B-F6B7565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B27-F803-4F91-ADA6-106F4880AB6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4B86-340B-4FC3-B988-814DF86429D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ais.org.au/condition/index.asp" TargetMode="External"/><Relationship Id="rId13" Type="http://schemas.openxmlformats.org/officeDocument/2006/relationships/hyperlink" Target="http://home.hia.no/%7Estephens/exphys.htm" TargetMode="External"/><Relationship Id="rId14" Type="http://schemas.openxmlformats.org/officeDocument/2006/relationships/hyperlink" Target="http://www.unm.edu/%7Elkravitz/Exercise%20Phys/cardiopulmonary.html" TargetMode="External"/><Relationship Id="rId15" Type="http://schemas.openxmlformats.org/officeDocument/2006/relationships/hyperlink" Target="http://www.gssiweb.com/sportssciencecenter/topic.cfm?id=56" TargetMode="External"/><Relationship Id="rId16" Type="http://schemas.openxmlformats.org/officeDocument/2006/relationships/hyperlink" Target="http://www.sportsci.org/" TargetMode="External"/><Relationship Id="rId17" Type="http://schemas.openxmlformats.org/officeDocument/2006/relationships/hyperlink" Target="http://www.iwu.edu/%7Ebkauth/330/330-9.PPT" TargetMode="External"/><Relationship Id="rId18" Type="http://schemas.openxmlformats.org/officeDocument/2006/relationships/hyperlink" Target="http://health.howstuffworks.com/sports-physiology15.htm" TargetMode="External"/><Relationship Id="rId19" Type="http://schemas.openxmlformats.org/officeDocument/2006/relationships/hyperlink" Target="http://www.physsportsmed.com/issues/2003/0803/kraemer.htm" TargetMode="Externa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50920" y="2421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6" descr="bookCover_34"/>
          <p:cNvPicPr/>
          <p:nvPr/>
        </p:nvPicPr>
        <p:blipFill>
          <a:blip r:embed="rId1"/>
          <a:stretch/>
        </p:blipFill>
        <p:spPr>
          <a:xfrm>
            <a:off x="3492360" y="2565360"/>
            <a:ext cx="125568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Live it up 2"/>
          <p:cNvPicPr/>
          <p:nvPr/>
        </p:nvPicPr>
        <p:blipFill>
          <a:blip r:embed="rId2"/>
          <a:stretch/>
        </p:blipFill>
        <p:spPr>
          <a:xfrm>
            <a:off x="3513240" y="4365720"/>
            <a:ext cx="126828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muscleMan"/>
          <p:cNvPicPr/>
          <p:nvPr/>
        </p:nvPicPr>
        <p:blipFill>
          <a:blip r:embed="rId3"/>
          <a:stretch/>
        </p:blipFill>
        <p:spPr>
          <a:xfrm>
            <a:off x="5292720" y="1844640"/>
            <a:ext cx="3390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data analysis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67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69-7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694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Respiratory Training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Respiratory Training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64818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creased minute ventilation-  Lungs become more efficient as a result of training. Ventilation is therefore reduced at sub-maximal workl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d pulmonary diffusion – oxygen is more readily extracted from the alve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d tidal volume (Amount of air inspired and expired during breathing)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ntilatory musculature – Muscles responsible for breathing require less oxy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proved lung function –due to improved lung volume and alveolar capacity surface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erobic capacity – Improves due to an increase in oxygen supply to the working musc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ee table 11.4 p.2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d VO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max – Due 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cardiac outpu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RBC numb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a-VO</a:t>
            </a:r>
            <a:r>
              <a:rPr b="0" lang="en-AU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 in muscle capillar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proved oxygen extr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3" descr="Respiratory-System"/>
          <p:cNvPicPr/>
          <p:nvPr/>
        </p:nvPicPr>
        <p:blipFill>
          <a:blip r:embed="rId1"/>
          <a:stretch/>
        </p:blipFill>
        <p:spPr>
          <a:xfrm>
            <a:off x="6877080" y="1844640"/>
            <a:ext cx="1942920" cy="252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red_blood_cells"/>
          <p:cNvPicPr/>
          <p:nvPr/>
        </p:nvPicPr>
        <p:blipFill>
          <a:blip r:embed="rId2"/>
          <a:stretch/>
        </p:blipFill>
        <p:spPr>
          <a:xfrm>
            <a:off x="4788000" y="4581360"/>
            <a:ext cx="40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Oxygen extraction: a-V0</a:t>
            </a:r>
            <a:r>
              <a:rPr b="0" lang="en-AU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 differenc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840" y="1733400"/>
            <a:ext cx="46893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-V0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difference = Arteriovenous oxygen difference: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“difference in oxygen consumption when comparing that in the arterioles to the venules, and an indirect measure of how much oxygen muscles are us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increase in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-V0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difference results in more blood being pumped to active muscles (especially slow-twi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uscle fibres better at extracting and processing oxygen as a result of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d mitochondria numbers, more oxidative enzymes and increased levels of myoglob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of this is due to the oxygen demands of th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5900760" y="1773360"/>
            <a:ext cx="1771560" cy="23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7477200" y="4437000"/>
            <a:ext cx="1493640" cy="2230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7451640" y="21337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12 mL/100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72436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8 mL/100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4 page 2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7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766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Muscular Training Adapt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uscular Training Adapt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12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hletes need to use specific training methods to cause muscular adaptations for their 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erobic – Trains the slow twitch (Type I) f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aerobic – Trains fast twitch (Type II) f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uscle fibre type and percentage that make up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uscle fibre type can change, eg for elite endurance athletes from 7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netics a big advantage to start with x amount of fibre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You are born with x amount of fast and slow twitch fibres. BUT you can train and gain more of one ty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YTH – “with training you can change from fast twitch to slow twitch or vice versa.” IM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– fast twitch fibres have been known to take on slow twitch characteristics in response to aerobic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22664_W400XH600"/>
          <p:cNvPicPr/>
          <p:nvPr/>
        </p:nvPicPr>
        <p:blipFill>
          <a:blip r:embed="rId1"/>
          <a:stretch/>
        </p:blipFill>
        <p:spPr>
          <a:xfrm>
            <a:off x="6588000" y="1700280"/>
            <a:ext cx="2254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erobic (Muscul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oxygen utilisation – Increased size and number and density of 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yoglobin s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uscular fuel stores ie.Glycogen, fatty acids, triglycerides and oxidative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capillary density to slow twitch fib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use of fat at sub-maximal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stores and use of intramuscular triglyce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oxidation of glucose and fats – Ability to metabolise and extract energy has improved. The body can therefore use ‘glycogen sparing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creased use of lactic acid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muscle fibre adap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Principle of Adap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naerobic (Muscul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2012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scular Hypertroph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Enlargement of the fast twitch muscle f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uscular stores of ATP, PC, creatine and glyc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ATP-PC splitting and resynthesis of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glycolytic capac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Enhances lactic acid systems ability to use glyco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rdiac hypertroph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Increases contraction forces exerted by the left ventricle in the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600_tennis"/>
          <p:cNvPicPr/>
          <p:nvPr/>
        </p:nvPicPr>
        <p:blipFill>
          <a:blip r:embed="rId1"/>
          <a:stretch/>
        </p:blipFill>
        <p:spPr>
          <a:xfrm>
            <a:off x="1692360" y="4076640"/>
            <a:ext cx="57150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naerobic (Muscular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447040" cy="29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contractile proteins in mus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yosin ATPase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Molecule responsible for splitting ATP into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ased muscle buffering capac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Muscles able to tolerate higher levels of fatigu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scle hyperplasia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Research in animals suggest that new muscle fibres may form under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– Increase in strength of connective tissue, number of motor units, speed on nerve impulses and muscular contraction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03preseason_rich"/>
          <p:cNvPicPr/>
          <p:nvPr/>
        </p:nvPicPr>
        <p:blipFill>
          <a:blip r:embed="rId1"/>
          <a:stretch/>
        </p:blipFill>
        <p:spPr>
          <a:xfrm>
            <a:off x="611280" y="4437000"/>
            <a:ext cx="3809880" cy="2138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lionsbrown_gallery__470x314"/>
          <p:cNvPicPr/>
          <p:nvPr/>
        </p:nvPicPr>
        <p:blipFill>
          <a:blip r:embed="rId2"/>
          <a:stretch/>
        </p:blipFill>
        <p:spPr>
          <a:xfrm>
            <a:off x="4500720" y="4437000"/>
            <a:ext cx="44766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424720" cy="4895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6920" y="151920"/>
            <a:ext cx="7728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280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11.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7662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Adaptations are Reversib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daptations are Reversib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30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aptations are reduced and then lost after stopping regula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e table 11.6 p.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versibility principle applies when an athlete becomes in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 a result, athletes need to undertake a vigorous pre-season months before the in-season st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fore maintenance in the off-season is required to minimise reversing the adap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1_1721l"/>
          <p:cNvPicPr/>
          <p:nvPr/>
        </p:nvPicPr>
        <p:blipFill>
          <a:blip r:embed="rId1"/>
          <a:stretch/>
        </p:blipFill>
        <p:spPr>
          <a:xfrm>
            <a:off x="6516720" y="1844640"/>
            <a:ext cx="2151000" cy="215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arnierexbig290305_450x450"/>
          <p:cNvPicPr/>
          <p:nvPr/>
        </p:nvPicPr>
        <p:blipFill>
          <a:blip r:embed="rId2"/>
          <a:stretch/>
        </p:blipFill>
        <p:spPr>
          <a:xfrm>
            <a:off x="6372360" y="4148280"/>
            <a:ext cx="2414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5 page 28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review questions 1-5 page 28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j0236235"/>
          <p:cNvPicPr/>
          <p:nvPr/>
        </p:nvPicPr>
        <p:blipFill>
          <a:blip r:embed="rId2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chapter questions on page 88-99 of Nels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j0236235"/>
          <p:cNvPicPr/>
          <p:nvPr/>
        </p:nvPicPr>
        <p:blipFill>
          <a:blip r:embed="rId1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Peak Perf"/>
          <p:cNvPicPr/>
          <p:nvPr/>
        </p:nvPicPr>
        <p:blipFill>
          <a:blip r:embed="rId2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the summarised information of pages 81-95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physed-notes3_4"/>
          <p:cNvPicPr/>
          <p:nvPr/>
        </p:nvPicPr>
        <p:blipFill>
          <a:blip r:embed="rId1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MMAG00299_0000[1]"/>
          <p:cNvPicPr/>
          <p:nvPr/>
        </p:nvPicPr>
        <p:blipFill>
          <a:blip r:embed="rId2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inciple of Adap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925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hletes train to adapt their bodies to a particular sport/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aining should b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pecific to their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pecific to the desired outcome as a result of adap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AID Princi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= Specific </a:t>
            </a: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= Adaptation </a:t>
            </a: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I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= Imposed  </a:t>
            </a:r>
            <a:r>
              <a:rPr b="0" lang="en-AU" sz="16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= De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ation = “a long-term physiological change in response to training loads that allows the body to meet new de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ess on the body causes adap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plateau occurs when the training load is not sufficient to cause st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aptations can be classified as acute and chroni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cute – Immediate physiological response to exercise which last the duration of the exercise session. Type of training not impor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hronic – Long-term adaptations to exerc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 this chapter, we will focus on </a:t>
            </a:r>
            <a:r>
              <a:rPr b="0" lang="en-AU" sz="1600" spc="-1" strike="noStrike" u="sng">
                <a:solidFill>
                  <a:srgbClr val="000000"/>
                </a:solidFill>
                <a:uFillTx/>
                <a:latin typeface="Arial"/>
              </a:rPr>
              <a:t>chronic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uge_muscles_2-782731"/>
          <p:cNvPicPr/>
          <p:nvPr/>
        </p:nvPicPr>
        <p:blipFill>
          <a:blip r:embed="rId1"/>
          <a:stretch/>
        </p:blipFill>
        <p:spPr>
          <a:xfrm>
            <a:off x="6659640" y="1773360"/>
            <a:ext cx="2014560" cy="266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fiber1"/>
          <p:cNvPicPr/>
          <p:nvPr/>
        </p:nvPicPr>
        <p:blipFill>
          <a:blip r:embed="rId2"/>
          <a:stretch/>
        </p:blipFill>
        <p:spPr>
          <a:xfrm>
            <a:off x="6300720" y="4508640"/>
            <a:ext cx="2524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VCAA Questions - 200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86800" cy="244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8642160" cy="219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6431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Web Links – Chapte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1027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18" name="Rectangle 1028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1029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20" name="Group 1030"/>
              <p:cNvGrpSpPr/>
              <p:nvPr/>
            </p:nvGrpSpPr>
            <p:grpSpPr>
              <a:xfrm>
                <a:off x="0" y="1562040"/>
                <a:ext cx="9144000" cy="3724920"/>
                <a:chOff x="0" y="1562040"/>
                <a:chExt cx="9144000" cy="3724920"/>
              </a:xfrm>
            </p:grpSpPr>
            <p:sp>
              <p:nvSpPr>
                <p:cNvPr id="221" name="Rectangle 1031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032"/>
                <p:cNvSpPr/>
                <p:nvPr/>
              </p:nvSpPr>
              <p:spPr>
                <a:xfrm>
                  <a:off x="0" y="1562040"/>
                  <a:ext cx="9144000" cy="372492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Rectangle 1033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Rectangle 1034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36"/>
          <p:cNvSpPr/>
          <p:nvPr/>
        </p:nvSpPr>
        <p:spPr>
          <a:xfrm>
            <a:off x="0" y="129528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Institute of Sport, strength and conditioning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2"/>
              </a:rPr>
              <a:t>http://www.ais.org.au/condition/index.as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Exercise Physiology – The methods and mechanisms underlying performance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3"/>
              </a:rPr>
              <a:t>http://home.hia.no/~stephens/exphys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bout metabolic adaptations and cardiovascular physiology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4"/>
              </a:rPr>
              <a:t>http://www.unm.edu/~lkravitz/Exercise Phys/cardiopulmonary.htm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s science library (Gatorade Sports Science Institute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5"/>
              </a:rPr>
              <a:t>http://www.gssiweb.com/sportssciencecenter/topic.cfm?id=56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 science (site for sports research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6"/>
              </a:rPr>
              <a:t>http://www.sportsci.org/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owerPoint presentation about cardiovascular adaptations from aerobic training (Illinois Wesleyan University – USA)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7"/>
              </a:rPr>
              <a:t>http://www.iwu.edu/~bkauth/330/330-9.PP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ow stuff works’ – How exercise works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8"/>
              </a:rPr>
              <a:t>http://health.howstuffworks.com/sports-physiology15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ticle – Strength Training Basics: </a:t>
            </a:r>
            <a:r>
              <a:rPr b="0" lang="en-AU" sz="1800" spc="-1" strike="noStrike" u="sng">
                <a:solidFill>
                  <a:srgbClr val="556731"/>
                </a:solidFill>
                <a:uFillTx/>
                <a:latin typeface="Arial"/>
                <a:hlinkClick r:id="rId19"/>
              </a:rPr>
              <a:t>http://www.physsportsmed.com/issues/2003/0803/kraemer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7">
            <a:hlinkClick r:id="rId20" action="ppaction://hlinksldjump"/>
          </p:cNvPr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8055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Anaerobic and Aerobic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Anaerobic Energy System Adap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473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ining the ATP-PC and lactic acid systems cau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d levels of anaerobic enzymes and fuels (</a:t>
            </a:r>
            <a:r>
              <a:rPr b="0" lang="en-AU" sz="1800" spc="-1" strike="noStrike">
                <a:solidFill>
                  <a:srgbClr val="ff3300"/>
                </a:solidFill>
                <a:latin typeface="Arial"/>
              </a:rPr>
              <a:t>See fig. 11.2 p.263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 in glycolytic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vements at the muscular level in both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ovements 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xygen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nsport and utilisation of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at breakdown as a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atty acid oxidation and respiratory ATP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ctate Infection Point (</a:t>
            </a:r>
            <a:r>
              <a:rPr b="0" lang="en-AU" sz="1800" spc="-1" strike="noStrike">
                <a:solidFill>
                  <a:srgbClr val="ff3300"/>
                </a:solidFill>
                <a:latin typeface="Arial"/>
              </a:rPr>
              <a:t>See fig 11.5 and 11.6 p.265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duced carbohydrate use during sub-maximal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d use of blood glucose – assisting in glycogen spa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reased capillarisation, mitochondria density and oxida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1835280" cy="1819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02" name="Picture 19" descr="CRW_3760"/>
          <p:cNvPicPr/>
          <p:nvPr/>
        </p:nvPicPr>
        <p:blipFill>
          <a:blip r:embed="rId2"/>
          <a:stretch/>
        </p:blipFill>
        <p:spPr>
          <a:xfrm>
            <a:off x="6877080" y="3933720"/>
            <a:ext cx="19638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6 page 265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8055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Cardiovascular Training Adap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raining Adap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ardiovascular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57690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ardiac Hypertrophy - Heart increases (Left ventricle) in size as a result of training. This increases the stroke volume (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capillarisation - (Coronary blood supply) of the heart – increases blood flow to the hea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stroke volume - thus reducing H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Lowered resting heart rate (Increase in SV causes a decrease in HR when Q is constant – approx 5 lit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er heart rate during sub-maximal workloads – Due to increased S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proved heart-rate recovery rates – Due to increased 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creases cardiac output at maximum workload – Constant at rest, but Q can reach up to 30L/min in elite athle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Cardiac Output = Stroke Volume x Heart Rate Q = SV x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xample      Q = 5L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V = Q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Before training HR = 71bpm therefore the SV = 0.07L/b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After training program HR=50bp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V now = 0.1L/b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271944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710080" cy="1441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3"/>
          <a:stretch/>
        </p:blipFill>
        <p:spPr>
          <a:xfrm>
            <a:off x="6732720" y="4665600"/>
            <a:ext cx="21952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ardiovascular Trai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1773360"/>
            <a:ext cx="8496000" cy="36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Lower blood pressur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relieves hypertension by lowering resistance in the vess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Arterio-venous oxygen differen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- increases as athlete is able to use oxygen from arteries more effectively (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  <a:ea typeface="Arial"/>
              </a:rPr>
              <a:t>see fig 11.13 &amp; 11.14 p.271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plasma, blood volume and haemoglobin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capillarisation of skeletal mus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Decreased blood cholesterol, triglycerides ad Low Density Lipoprotein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 (LDP). These substances are associated with coronary heart dise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creased high density lipoproteins (HDL)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Ratio of HDL to LDL increases, which is important for heart heal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creased redistribution of bloo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Training can lead to a 20% increase in blood flow to working musc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2" descr="skeletal_muscle_20x"/>
          <p:cNvPicPr/>
          <p:nvPr/>
        </p:nvPicPr>
        <p:blipFill>
          <a:blip r:embed="rId1"/>
          <a:stretch/>
        </p:blipFill>
        <p:spPr>
          <a:xfrm>
            <a:off x="826920" y="4724280"/>
            <a:ext cx="2305080" cy="1832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2"/>
          <a:stretch/>
        </p:blipFill>
        <p:spPr>
          <a:xfrm>
            <a:off x="5940360" y="4743360"/>
            <a:ext cx="28796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08311469</cp:lastModifiedBy>
  <dcterms:modified xsi:type="dcterms:W3CDTF">2008-06-17T08:34:57Z</dcterms:modified>
  <cp:revision>134</cp:revision>
  <dc:subject/>
  <dc:title>Unit 4</dc:title>
</cp:coreProperties>
</file>